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358-9247-454E-B565-9F7767E6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5A6-A60E-4A4B-AFEB-977D01D9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DBC-83FE-4C1A-84E9-2A258486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3FB-C71C-4345-BFAE-F13B9E2B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B6CD-2B04-43E2-904E-3D4E0135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039C-DEF1-4E64-99DF-89251042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4B6D-724A-44D9-A284-A469CC6C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6705-122B-4B4B-9DAB-80E4550B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FC2F-70E2-4A43-AFB0-4DBDDB5C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9CA4-2393-4F80-A59D-48A35700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F7D0-FD76-4A38-9744-E04160B9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A4A-BEB9-4763-99B9-71A3250C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0EA9-5468-4AB2-88D0-3746786C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E14F-0B7C-49D0-8D73-BD7B83B0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55ED-6EAA-4F25-A0A8-B1483B03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C58A-BF68-417D-9456-FDA5FA70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81A5-131F-4392-941D-EC57FDAA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83E-0F9A-47E9-993D-7D0DAB8E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AEE-C3B6-48AC-9843-9E3EF26E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952-ECF6-4C59-B6A5-A17ABF55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389-B0FF-47B3-9E37-50C6C090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3F2-F9C6-4EA6-A0E0-CDC3CB34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CF0-7D38-4315-8126-D5EB2134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649-AAE6-44CA-BB5D-A0A663AF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12B8-54A0-4B7D-A6EF-222964E403D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1BFB-F97A-4FA4-845A-2BD329A8170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9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6633"/>
                </a:solidFill>
                <a:uFillTx/>
                <a:latin typeface="Garamond"/>
              </a:rPr>
              <a:t>Study of a Multimedia Publishing Engine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400"/>
            </a:br>
            <a:br>
              <a:rPr sz="34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ierre Trocmé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anyang Polytechnic -  </a:t>
            </a:r>
            <a:r>
              <a:rPr b="0" lang="en-US" sz="3800" spc="-1" strike="noStrike" u="sng">
                <a:solidFill>
                  <a:srgbClr val="006633"/>
                </a:solidFill>
                <a:uFillTx/>
                <a:latin typeface="Garamond"/>
              </a:rPr>
              <a:t>July 200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RM Technolo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gital Right Management aims to protect the content provider from unauthorized distrib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ral standard exist (Microsoft, Ericsson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standard defined by the 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MA DRM has been adopted by most (all?) phone construc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ed Too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n Java JRE and SDK 1.4.2_02  and 1.5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lipse plat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xWorkshop until demo license expi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HDD Hex edit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extpad edi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OS comp ut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art I: Study of a Java Audio Transcoding Engine (ATE) for Wireless Cellular Delivery of Audio Content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0" indent="-619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ultimedia Messaging Service (MMS) multimedia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nsidered Audio Form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ave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PEG-4 Audio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MR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ntered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 and recommend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 Multimedia Messaging Service (MMS) multimedia format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R for speech enco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EG-4 AAC LC for audio enco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ject Overvi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66680" y="2438280"/>
          <a:ext cx="981360" cy="5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98136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710320" y="1789200"/>
          <a:ext cx="100008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0320" y="1789200"/>
                    <a:ext cx="10000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519200" y="4130640"/>
          <a:ext cx="1000080" cy="5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19200" y="4130640"/>
                    <a:ext cx="10000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715000" y="4125960"/>
          <a:ext cx="99072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125960"/>
                    <a:ext cx="9907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505320" y="2971800"/>
          <a:ext cx="1257120" cy="6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2971800"/>
                    <a:ext cx="12571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2" name=""/>
          <p:cNvCxnSpPr/>
          <p:nvPr/>
        </p:nvCxnSpPr>
        <p:spPr>
          <a:xfrm>
            <a:off x="2048040" y="2733840"/>
            <a:ext cx="1458000" cy="538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>
            <a:off x="4762440" y="3271680"/>
            <a:ext cx="953280" cy="11548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/>
          <p:nvPr/>
        </p:nvCxnSpPr>
        <p:spPr>
          <a:xfrm flipV="1">
            <a:off x="4762080" y="2084400"/>
            <a:ext cx="948600" cy="118764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/>
          <p:nvPr/>
        </p:nvCxnSpPr>
        <p:spPr>
          <a:xfrm flipV="1">
            <a:off x="2518920" y="3271320"/>
            <a:ext cx="986760" cy="1154880"/>
          </a:xfrm>
          <a:prstGeom prst="bentConnector3">
            <a:avLst>
              <a:gd name="adj1" fmla="val 498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533520" y="5334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53341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66680" y="1523880"/>
          <a:ext cx="990720" cy="66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6680" y="1523880"/>
                    <a:ext cx="99072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057400" y="1828800"/>
            <a:ext cx="144792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1828800"/>
            <a:ext cx="1523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nternal Structure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2152800"/>
            <a:ext cx="981000" cy="590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77240" y="1447920"/>
            <a:ext cx="1000080" cy="590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066680" y="3733920"/>
            <a:ext cx="1000080" cy="590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086600" y="3886200"/>
            <a:ext cx="990720" cy="600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962520" y="2590920"/>
            <a:ext cx="9810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666880" y="3505320"/>
          <a:ext cx="1200240" cy="1647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6880" y="3505320"/>
                    <a:ext cx="120024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40" name=""/>
          <p:cNvCxnSpPr>
            <a:stCxn id="135" idx="3"/>
          </p:cNvCxnSpPr>
          <p:nvPr/>
        </p:nvCxnSpPr>
        <p:spPr>
          <a:xfrm>
            <a:off x="2066400" y="4028760"/>
            <a:ext cx="600840" cy="300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endCxn id="137" idx="1"/>
          </p:cNvCxnSpPr>
          <p:nvPr/>
        </p:nvCxnSpPr>
        <p:spPr>
          <a:xfrm flipH="1" flipV="1" rot="5400000">
            <a:off x="3304800" y="2847600"/>
            <a:ext cx="619920" cy="6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3" idx="2"/>
            <a:endCxn id="137" idx="1"/>
          </p:cNvCxnSpPr>
          <p:nvPr/>
        </p:nvCxnSpPr>
        <p:spPr>
          <a:xfrm flipH="1" rot="16200000">
            <a:off x="2535840" y="1459080"/>
            <a:ext cx="143640" cy="2710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43" name=""/>
          <p:cNvGraphicFramePr/>
          <p:nvPr/>
        </p:nvGraphicFramePr>
        <p:xfrm>
          <a:off x="5105520" y="1266840"/>
          <a:ext cx="1218960" cy="1933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05520" y="1266840"/>
                    <a:ext cx="121896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45" name=""/>
          <p:cNvCxnSpPr>
            <a:stCxn id="137" idx="0"/>
          </p:cNvCxnSpPr>
          <p:nvPr/>
        </p:nvCxnSpPr>
        <p:spPr>
          <a:xfrm flipH="1" flipV="1" rot="5400000">
            <a:off x="4600080" y="2085120"/>
            <a:ext cx="358200" cy="653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endCxn id="134" idx="1"/>
          </p:cNvCxnSpPr>
          <p:nvPr/>
        </p:nvCxnSpPr>
        <p:spPr>
          <a:xfrm flipV="1">
            <a:off x="6324120" y="1742760"/>
            <a:ext cx="753480" cy="491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47" name=""/>
          <p:cNvGraphicFramePr/>
          <p:nvPr/>
        </p:nvGraphicFramePr>
        <p:xfrm>
          <a:off x="5105520" y="3733920"/>
          <a:ext cx="933480" cy="1495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05520" y="3733920"/>
                    <a:ext cx="9334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49" name=""/>
          <p:cNvCxnSpPr>
            <a:stCxn id="137" idx="2"/>
          </p:cNvCxnSpPr>
          <p:nvPr/>
        </p:nvCxnSpPr>
        <p:spPr>
          <a:xfrm flipH="1" rot="16200000">
            <a:off x="4128120" y="3504960"/>
            <a:ext cx="1301040" cy="653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endCxn id="136" idx="1"/>
          </p:cNvCxnSpPr>
          <p:nvPr/>
        </p:nvCxnSpPr>
        <p:spPr>
          <a:xfrm flipV="1">
            <a:off x="6039000" y="4185360"/>
            <a:ext cx="1048320" cy="296280"/>
          </a:xfrm>
          <a:prstGeom prst="bentConnector3">
            <a:avLst>
              <a:gd name="adj1" fmla="val 499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53352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the simplicity of its structure, the Wave format will be chosen an intermediate file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43120" y="1143000"/>
          <a:ext cx="785880" cy="1219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643120" y="1143000"/>
                    <a:ext cx="7858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14"/>
          <a:stretch/>
        </p:blipFill>
        <p:spPr>
          <a:xfrm>
            <a:off x="685800" y="1219320"/>
            <a:ext cx="990720" cy="664920"/>
          </a:xfrm>
          <a:prstGeom prst="rect">
            <a:avLst/>
          </a:prstGeom>
          <a:ln w="0">
            <a:noFill/>
          </a:ln>
        </p:spPr>
      </p:pic>
      <p:cxnSp>
        <p:nvCxnSpPr>
          <p:cNvPr id="155" name=""/>
          <p:cNvCxnSpPr>
            <a:stCxn id="154" idx="3"/>
          </p:cNvCxnSpPr>
          <p:nvPr/>
        </p:nvCxnSpPr>
        <p:spPr>
          <a:xfrm>
            <a:off x="1676160" y="1552320"/>
            <a:ext cx="967320" cy="200520"/>
          </a:xfrm>
          <a:prstGeom prst="bentConnector3">
            <a:avLst>
              <a:gd name="adj1" fmla="val 498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/>
          <p:nvPr/>
        </p:nvCxnSpPr>
        <p:spPr>
          <a:xfrm>
            <a:off x="3428640" y="1752120"/>
            <a:ext cx="28188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WAV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 Format for storing digital audio (waveform) dat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a variety of bit resolutions, sample rates, and channels of audi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s into account some particularities of the Intel CPU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are stored un “Chunks”, under a Pulse Code Modulation (PCM)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MPEG-4 Audio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hird standard defined by the  Moving Picture Experts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Complex Algorithms and data structures to define the best compression rates, supporting Broadcas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 Backward Compatible with previous MPEG specif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d Audio (S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 To Speech Interface (TTSI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ced Audio Coding (AA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tension of the MPEG-2 A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Complexity (L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AMR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Multi Rate format, as defined by the ETSI organ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ally designed to Compress Speech with the minimum noise at a given frame 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model of the human org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 Broadca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ork D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ation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ed how is a Wave file m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ood the compression principle of the AMR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R study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ed the mathematical tools for computing AMR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 Hand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ing the Wave File hand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809880"/>
            <a:ext cx="80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esent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ue : Nanyang Polytechnic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school of engineering (ED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location : S47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ervisor :Mr Wee – Lectur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ship duration : three 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ncountered Probl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k of docu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3 and MP4 specifications are sold by ISO and redistribution is forbid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R is too new for finding any relevant documentation on it over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k of audio processing knowl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y to understand the reasons of several encoding ste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 and recommend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Processing is a too wide field to be studied in one mo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made by someone with the relevant skills the project can be done in a few mo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ocuments have to be provided from the 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t II: Design of a Publisher Engin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How OMA DRM 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How do download descriptor generation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Design Cho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. Project Block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ibrary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. Descriptions of the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. The library in action: The publis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. Test sequence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vi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ing a DRM Protection Libr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ing a WAP Download descriptor file gener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ing a MMS file wrapper for sending DRM protected cont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ible use of the Nokia open source MMS Libr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ing an intuitive software demonstrating the library functiona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OMA DRM Forward Lock Work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7900920" cy="496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ucture: Forward Loc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ME Multimedia type (RFC 204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media Object included per dm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876920" y="1828800"/>
          <a:ext cx="3485880" cy="22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828800"/>
                    <a:ext cx="348588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ucture: Download descrip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 example 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&lt;media xmlns="http://www.openmobilealliance.org/xmlns/dd"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&lt;objectURI&gt;MySite.biz/whatISell/product1.dm&lt;/objectURI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&lt;size&gt;297&lt;/size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&lt;type&gt;image/jpeg&lt;/type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&lt;type&gt;application/vnd.oma.drm.message&lt;/type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&lt;name&gt;jokeoftheday.jpeg&lt;/name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&lt;vendor&gt;Pierre Trocme&lt;/vendor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&lt;description&gt;This is the Joke of the day!&lt;/description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&lt;nextURL&gt;MySite.biz/thanks&lt;/nextURL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&lt;infoURL&gt;MySite.biz/about&lt;/infoURL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&lt;iconURI&gt;MySite.biz/smiley.gif&lt;/iconURI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&lt;/media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sign Cho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p it simpl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to Install (Java extension mechanis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to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le generators are divided in three different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to und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nstructor structure and arg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ptional parameters 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le generation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ject organ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7924680" cy="3405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81080" y="2286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259092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304812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80988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4191120"/>
            <a:ext cx="762120" cy="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648320" y="3124080"/>
            <a:ext cx="0" cy="45720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library class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38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art I: Study of a Java Audio Transcoding Engin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art II: Design of a Publisher Engin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Visual Publisher: Main pan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38480" cy="4218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43480" y="2070000"/>
            <a:ext cx="2648160" cy="1247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343480" y="4325760"/>
            <a:ext cx="2648160" cy="14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Visual Publisher: DRM Pan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71312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Visual Publisher: MMS Pan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751040"/>
            <a:ext cx="4038480" cy="4228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48320" y="2239920"/>
            <a:ext cx="4038480" cy="90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4038480" cy="96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contact with the main actors of an expanding mar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rience of tomorrow's right protection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rience of the conception of a development tool for others program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ease of an user-friendly software for final u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onal achiev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earned about sound proc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earned how to make efficient research about new standards and their implemen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onsolidated my java knowl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ead a project from the scratch and respected the dead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experienced working three month in a foreign cou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Thank you for your time and attention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ny question, please 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sentation of the actors (the 3GPP Project, the Open Mobile allian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sentation of the used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d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ject Obj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zing a full content publisher for mobile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udio transco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ecure publishing engine for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ward protection of the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P Pus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MS forma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3GPP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d in 199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ms to design tomorrow’s ph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ed by most of the phone operators and construc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ill releasing specif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open mobile allia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pendent organization formed in June 2002 by nearly 200 compan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orld’s leading mobile ope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ice and network suppli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technology compan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nt and service provid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ms to unify all the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only open source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ultimedia Messaging Services technolog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eased by the 3G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MS is an extension to the 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multimedia cont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P Technolo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reless Application Protocol is an open, global specif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WAP consortium recently joined the 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ind of Internet specification for mobile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methods for directly sending content to a connected target device (WAP Push techn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rre Trocme – Design and Development of an ATE engine – Nanyang Polytechn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0:50:04Z</dcterms:created>
  <dc:creator>pierre</dc:creator>
  <dc:description/>
  <dc:language>en-US</dc:language>
  <cp:lastModifiedBy>pierre</cp:lastModifiedBy>
  <dcterms:modified xsi:type="dcterms:W3CDTF">2004-07-19T09:57:49Z</dcterms:modified>
  <cp:revision>89</cp:revision>
  <dc:subject/>
  <dc:title>Design and Development of an Audio Transcoding Engine (ATE) for Wireless Cellular Delivery of Audio Content </dc:title>
</cp:coreProperties>
</file>